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712F-527A-4A60-BCFD-C1F4AF9E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F25A-69E7-45F7-8A5A-51A4E38B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4B77-B78A-4BC9-841D-0086AB75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1E84-B5C9-4E12-89F1-6DBF05CA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4D5F-A198-4841-86B3-EAD1E745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F630-F5E8-484A-8B69-94972C8F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D4DC-486D-425B-8A8F-F42FF39F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C424-25C0-4C82-AD74-B874553B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E957-7AD8-43B3-A65C-393F4D7E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9BE9-E721-4613-8513-BAA3203E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045B-A2AB-4F34-B127-2141F665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A0B4-1210-47AF-96E1-3642AE7A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7A16-4B69-4D99-9DF2-73BECB50E8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-303120" y="1557360"/>
            <a:ext cx="990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IRLING  EX  PRESIDENTS                        EX  PRESIDENTS                           EX  PRESIDENTS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33"/>
          <p:cNvSpPr/>
          <p:nvPr/>
        </p:nvSpPr>
        <p:spPr>
          <a:xfrm>
            <a:off x="3728880" y="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9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5" descr="Stirling Ex Presidents 2.jpg"/>
          <p:cNvPicPr/>
          <p:nvPr/>
        </p:nvPicPr>
        <p:blipFill>
          <a:blip r:embed="rId1"/>
          <a:stretch/>
        </p:blipFill>
        <p:spPr>
          <a:xfrm>
            <a:off x="272880" y="333360"/>
            <a:ext cx="1157400" cy="1266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6" descr="Stirling Ex Presidents 3.JPG"/>
          <p:cNvPicPr/>
          <p:nvPr/>
        </p:nvPicPr>
        <p:blipFill>
          <a:blip r:embed="rId2"/>
          <a:stretch/>
        </p:blipFill>
        <p:spPr>
          <a:xfrm>
            <a:off x="2000160" y="549360"/>
            <a:ext cx="1041480" cy="1046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7" descr="Stirling Ex Pressidents 50th.JPG"/>
          <p:cNvPicPr/>
          <p:nvPr/>
        </p:nvPicPr>
        <p:blipFill>
          <a:blip r:embed="rId3"/>
          <a:stretch/>
        </p:blipFill>
        <p:spPr>
          <a:xfrm>
            <a:off x="3513240" y="333360"/>
            <a:ext cx="122544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8:29:43Z</dcterms:created>
  <dc:creator>HP authorized customer</dc:creator>
  <dc:description/>
  <dc:language>en-US</dc:language>
  <cp:lastModifiedBy>John</cp:lastModifiedBy>
  <dcterms:modified xsi:type="dcterms:W3CDTF">2011-12-23T11:10:24Z</dcterms:modified>
  <cp:revision>30</cp:revision>
  <dc:subject/>
  <dc:title>PowerPoint Presentation</dc:title>
</cp:coreProperties>
</file>